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B4A-5572-4B3D-9697-B02B4BA4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C29-8E40-49D2-80EB-73AEE7A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1A57-C231-4C00-82CF-2E9AAFEB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AA42F-A3B9-4B41-8D1C-0BDE4C6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C302-362D-49F5-B1E1-520E6D37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E539-E1EA-403D-8909-3FFE053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5B428-3A42-41DE-BB86-C322793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7AA21-8B9B-4DA9-BFA4-6238F64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0AB86-ACCB-4322-88FE-EB4DFBC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7B517-819C-4F90-9F34-9DAFDDD4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BBA7C-0BC5-4287-977B-19F16EAE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D2B45-A78A-47F1-9BD5-F5B69777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FF6-9518-4948-9944-63FA588B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5ADB9-8C87-4218-B148-4B94D8F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F4CD5-A909-4F9A-BEF8-CDD459A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44EBA-41C7-401E-B665-4ED6E560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5F3E-8441-4096-ABBD-C97CE425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AFB08-6100-4E29-855C-E6F9FD1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0BE81-A2A5-465D-8C13-FEE00D1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51888-7023-4992-BB93-7B9FEEF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9A5AB-9B97-4CF2-BCEE-4A59DEF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2B423-0FF9-4530-88C0-2F5354E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24465-AB55-4A18-A627-579BB3F6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EBB-9505-4D8F-ACDF-8071249C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E0BC4-F686-4D82-9955-43EF4DE5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A5C8C-27AC-4080-A3E2-C7231646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BD15-F40E-4462-9ABF-D587E39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ED832-CBFB-468A-B89F-75B22CC8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6F193-FD29-4B92-9F4A-698C08A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A544E-7362-420D-BE2D-8AF3EE58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1257E-BD3A-4F67-A55A-0F39A1D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401B7-9F5F-49C2-BCEE-809CC39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99BBB-6B26-4406-95B4-4185F15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F152-A39C-429C-9253-E3C5749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1255-3709-4596-8CC5-1191F8D3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677AE-239C-41D1-AE20-28321385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84E3-E7AD-4F03-8630-CDF5BC69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264B-321B-4E35-933F-75E14306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845B4-0E99-4CFF-AFCD-95759E4E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29E44-5B47-48E9-9A93-3401C19D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BA25C-6CEF-40C9-ACA0-F4907E4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A512E-BB33-430D-A69F-7A103DB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4FE19-893D-45A5-A4F5-96ADA015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2EE31-AB93-43DF-B788-854F8CE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300D9-9C0D-4EB7-B3BC-374A7E8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C23E-3A61-45CF-93B2-5DB253B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A0381-A84D-4D77-BACC-F687286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ABFCF-9877-4A50-AF6C-6D623D9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000F3-0DB6-4A17-801B-4B769C3D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CAEBD-E622-40E5-99D6-5760F829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BAD2-7AA8-48C7-8A88-87A3ABC3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28E63-2A2C-47DC-8731-DD70F1F5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684EB-13FB-44E0-BC44-5CA2CC9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829AE-42FC-435F-B084-F0277ED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1CD22-D2A4-4B2F-80E2-BFBF778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0A655-19AB-4107-A1C0-AC60E8DA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984F-5142-4FAE-BECE-BA7C7417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6FFCF-FAE2-44D5-858B-DDE2B7E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14073-F74A-489D-82FA-FE6E766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BBF8F-DEC1-4122-B364-1D9F025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CC7A2-D40D-4A1A-8AD1-EF46878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9CD78-F61E-4920-85E0-0F18B658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2DD5F-9DE1-4E04-8578-4A74DFE0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F00F-3FEB-4947-B2B4-5DD12FF8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8FF3A-538D-4E91-9C58-000AB538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726F3-85B7-4F7B-9EC5-2974FE71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02DF3-3557-47D2-9A4E-5ED00A6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5120-F1FB-4294-9374-355084DC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4B053-FBFA-4407-A29F-0A8A4DEB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5E3F8-AFE5-4B50-830A-6C514B57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5CF64-8180-402F-A5F8-E8CA6E4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C449E-85BB-412E-A9A8-993AA87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677D3-CCAC-4343-A187-D123FDB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919B0-212D-4888-B790-4CED746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3D1D9-8075-49F5-A546-8E11D5E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702D6-604B-48E9-984C-427468C7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F1624-A5FF-4C89-A616-6963E3C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E25E8-3414-46EC-BEE9-8ED2C60F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056B-EDD2-404F-AAD0-3A6C7CA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8C7BB-185F-44FA-9BDC-7CE3905C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641D2-9B6B-4332-A1CD-BCB95825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710F8-9B80-40EF-B370-45E985C6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82902-DB11-4CA0-BD20-0872A4D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EDB44-A602-405C-B573-9D6E081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C3F8D-8F03-4E57-B97A-45D1E4A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287D5-EFD1-4C0D-A08A-B305815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F6534-4621-4EC7-ADAD-8D80031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C230F-9219-4C75-8D5F-1D5D0696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0F264-2691-4C90-BBA6-C384437E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00B-4EB7-4247-8953-FED7E44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152F7-4CAD-444E-8BA5-DC148E02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BE011-6142-4AB4-889D-400CB84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0ED38-9A15-412E-A878-0A2D832B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DAC9A-45E8-4BCA-8E4B-4A56310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BA929-F068-409E-B48F-FB23B133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AD24C-4189-490D-AB68-6B3893CC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A4954-2A4A-4D9F-AB1B-192C77C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19AC0-9853-4AA9-8C71-89D7C44C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52C2A-BFB7-4845-8B38-5F46738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9DA13-6FF0-4AA4-AABF-498DFB8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865-FB78-401F-BBCA-B1AA17A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66ED5-5AC4-4F30-B3A0-5438903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09884-860E-4D64-952C-0268B97A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DD12E-5C00-485C-9AED-8E26A5F7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451FC-00A7-4745-A79C-BF3E3D7B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17F0A-42B7-4E2F-A1D3-A3FE13EF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37511-2706-467B-8100-D70EA11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7DF56-CF6B-415A-BBE0-6D4B30CD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388F5-E27F-4A5C-9195-3408B65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B3D18-2BC5-4959-BF96-B91F11D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839C9-45F3-4C90-8711-E3CFF05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524-0E81-49A8-AC3F-F085CF8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7DD6-4C8A-43A9-9404-F3DF681E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66DF7-354C-4ACC-9224-DA7471B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9E5ED-50BE-45A7-B217-78D0E36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EA7B9-9F96-4BF5-B917-4E42B49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3C098-6783-433E-BB7D-1D86D44B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0ADBC-9ABA-4BC4-A840-EF7A9141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DCDDD-7A9E-4F4A-9F91-487259B7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692F1-B46E-4602-9B76-C806B72C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28674-99F7-4DD8-92B1-5C15F5CD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CEF0D-CB70-42B7-94EF-803582C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90575-CEE4-406B-943F-0E525FBC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3DD4-7B50-45C3-8C9E-7062FAA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A44E2-DDC2-4A66-9E0A-56D9C76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C126A-F44A-4F14-817B-3BD8930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D95D9-AFA6-4874-BA08-B39F507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9C76E-4392-4566-BC3F-57289D1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AA367-6932-409A-9057-0D2A006C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D91B4-D15D-4B60-8E51-CCF3ED9F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F8B27-166F-4270-B6BA-7BBF7406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64B3B-6692-4503-980B-4A972A2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C4690-17E6-4E40-87F3-61665E0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008F0-039B-425D-B12A-9204F09E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2F4-9F5C-4318-8B16-8BC6415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E4117-FAE7-4999-AE29-145A718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447B0-A909-4814-A164-C172B55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CEDBF-8DEE-40AD-BC45-E0FCC61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1FA1C-217F-4E3C-A10F-FFB602A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3A28F-D283-45F0-8FD1-95C6788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1B07F-3448-408F-8870-7BD542C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4E6CD-F29D-40F2-9771-AF6891C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F136A-D002-4D23-97E1-180DA448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48B59-699D-42C3-87A8-5C6A6B86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B80363-DB01-4A5F-BDCB-7FADE0C8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9658-4CAD-4534-86BC-CECBBE85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FD8BE-D042-4E1F-AE11-DADA281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9BE58-A0DF-45EC-B89E-F9A3C4BB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1E7F4-AAC3-4E4C-A232-21E3AAA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C00A2-AC62-4876-A5BB-F185F10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9EED6-E2A7-4EB1-ABCF-B493EECB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D69909-A6F2-4159-ABF8-F51B62C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688A7-687F-46D9-B4BA-7844657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D0D94-3AB3-4345-91FE-CA2C673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B3617-EFDA-45BF-B697-E583E79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B5239-C079-4641-83AE-70E0788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6F0-EEF9-4F1C-9A97-2171EC0F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6ED70-A8FD-4EB2-A210-BFC86889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B5C88-CAA2-47AF-9817-C660E620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94119-273C-482D-A0D8-0A26695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1FE15-AA5A-44BF-8197-7800257A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6BD94-2FD2-4085-AB3E-88FDD58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83F5A-FA18-485C-B2FE-EB5B3DF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DB08D-0975-4EB0-B3C9-83B3058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7EAFE-326F-49F2-936F-80A1FD7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B62C5-E9DD-4E3F-A94E-D9AEA17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789059-7908-4C4E-B723-D0F66AF5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AFBF-0B56-4AC0-BB3E-91517559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8E9E2-D1DA-4B76-861C-D055C0B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36408-E985-4768-9B65-EFCEC187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C64FC-602C-4EF7-B471-B9516DFF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9002-DDDC-48AA-BAF7-8B0998E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B45E-4A17-4BD1-93F3-7A00ADD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56D4-7811-4C7B-A9C7-EE0CA3F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A1A1-2AAD-4991-9AEA-FCBD3A7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39-7CEE-4522-B8A9-78D3D26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4156-2849-465A-9D4A-2AC14D2F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1AE9-5625-41DE-A438-EF4904A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861D-D773-41F3-83D3-BF733F5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0D7B-86AD-40D4-A2CC-F44DC59D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7B7F2-9AC5-4A23-96F2-13269D3D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A7BE-169F-4A0A-9181-5582567A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457F-84B8-48AE-9B6E-6B234BF3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0415-DFA9-453F-8F3D-6124C370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F7EA-D956-4CC7-B8D3-CEC31B2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6FA9-5E86-47EB-B9FB-27C70276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675-245D-4CAA-8B90-BA158CD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44CB-F845-4DA8-86FE-C79BF1DE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32DF-643F-4722-9C3F-8D70D508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0E8C-37B8-41B3-9EF9-015EF2B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09CB-ABA2-4381-AA00-2A4D396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3181-98AC-4482-A2D2-21A9AAF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E44F-24A7-446F-A362-11133AC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1860-A593-4FD4-BF1F-C80BE436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6C4D-2C8D-4FFC-97B0-95FC6B63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4A9A-E111-4C32-A3D8-73C8640D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94B0-4169-4C43-9FA2-D2B03C8B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3DA-AC52-4BF3-981C-0E12223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D214-3425-4390-9AE2-45AC260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04D2-5986-4AB5-A5B2-050397F1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C422-BFC4-4A21-A520-7AC4EA1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508D-B622-4EE7-A518-CF70B7E6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8B5D-19F2-4C9C-ACE6-81FF930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47AF-62EC-46F0-BD38-82930C4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AEEA-2DD6-4FF7-A642-7BD9EAC1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8C3A-E4AE-45C6-8A23-8393876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1AE0-1542-4C6C-BC85-638084E9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CD4CA-54CB-41B7-8770-1F089FBB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3EF-A540-486A-9BF6-79EE997E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8024-689F-450A-A90C-38BF8436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6128-408E-4A98-A7CE-BD837ABE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20B4-431F-41DC-93A6-3C2A183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BCC4-2E87-43D0-9C47-9CFCBDCC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4BFD-556A-45F3-A3F8-88F5AF9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24B1-EBE8-4A70-BD4C-F2546AD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5D50-0CB0-4CF2-9C74-6E86B756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B0902-078D-459E-93A0-19BCE8B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29E5-3D71-48D6-85E6-5426DF1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75B0-68DC-45CE-A909-D6591356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1B-5F98-43C6-B840-ACF2605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159A-DA56-4702-8798-1EC8FE17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03C6-9F43-4B39-8D03-1B795DA1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729A-3720-4CC9-B6E0-D555644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2EAB-5071-4790-BC9E-DA363C52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64A9-8869-457B-B0FD-EBC5EE2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8219-B640-4DB3-8953-E87166BF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9918A-D7E6-4FE3-A53E-E06F4780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65E3-9EC4-4C5F-8E8E-B520AE0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8E46-7F29-4804-8157-FFCB93D7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1EF5-DD10-406C-A445-39998E2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FDB-1089-4570-A7F6-BFD983A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ED091-742C-494B-8433-1D016DA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B5E6-7DEA-403F-8A1C-7AA79BC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3229-22B0-4AF9-A55F-CEDECB4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6D344-D3EE-46D9-8464-07287765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92074-60BC-42F6-A44D-CB14FDFB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3BC36-4FD3-4ACA-A8BD-7B4B3AAC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1702-ED3B-485C-A2C6-328F105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B58D-A1A5-44AB-B5F9-30BF433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DD05-458C-4EC0-A5DB-D2A52C5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DD51F-7EEE-4F09-9AC3-376B0FE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1AD-B5F1-44A3-9E11-00810740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5B96B-DB87-474D-BD35-DBBFA84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C476-D239-47C3-BE87-32817D3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FE5CA-ADED-48DF-BD6E-0898D078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71AE-3FB6-4A04-8EAD-9ADD20AF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80BC0-EFB1-4D14-94FC-6FFD36C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AC20-1165-4339-B54E-7252F785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B747-22CE-438D-BFE2-95351B7A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95D75-6AED-4318-9ACF-814A1F04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3298C-FED2-47C2-B0D7-6A861AAB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257D5-16FF-44FE-BB4B-1822EA8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4CC-B552-4C5D-B528-920CA80FF3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34F-C26F-4DD0-A850-8CDD84E53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8A0E-DFAD-4D60-927F-2602B205D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E13-1AFB-428C-A8B7-1084E9617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FC59-13FB-46C5-84A6-4030399E3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1AFA-EA64-4E7F-9E54-E3951B77D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5151-D411-45C8-9FFE-6CD368E9A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0956-21E1-4DEC-8F83-76947276BE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8C95-6F73-4FA7-A0C8-7870ECC01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56A2-3946-4814-8C4C-654114DFE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1DFD-E6B8-420D-8FA2-DF95D705B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E5E4-BAAD-4E8F-B640-1FE3D155F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ED4-0A23-482A-8B9A-503B775A4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E1F-3583-4404-832B-486DE97AF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F8C0-E0F3-4F7A-8651-6398696E0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A5C-5335-4276-9C2D-3852E11D1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C1B-F002-4675-819A-4391556C6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5B7A-5CC0-4C3C-8119-082611BDF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E93-F5EF-4009-807D-553DCDC9A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31A-0A5B-400E-83E2-25BF46D80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70A-9EF1-4D04-A65E-FD2240A285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8313-FDBA-4F5B-B883-DDD171B70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011-BC1C-4BDF-8A95-E5173373D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7B4-A965-41D0-9FE5-BEBEB138B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EF9-963E-4DA4-BCA1-8EEC60505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2D2-945A-45F4-89E5-5B4AF66C3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A73-A5F1-4BFC-A62E-88DE340EF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57E-BF09-4E77-99D2-315658101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DE2-0172-4B56-872E-55478AB00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BE1-AF45-4AFF-87C9-4B732F8D96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B78-E6BA-4478-B691-0789ACE0A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A87B-ED7A-40C9-99C9-BA23EFECB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0B0-594E-4E55-9243-47E1108F96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FEC-6396-4B33-81B5-D1A281CED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0DA-0FF3-4D69-B59D-4C53AEAFC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381-A6D8-4928-B79D-6FC77356A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41C-6F41-44B4-9828-24C9694C0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D8B2-D22B-48FB-92E9-B65AF06F94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490F-24F9-44EA-B7EF-59DDB3FE9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D2B-2F37-4763-92C8-9A5F39FBF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8920" y="1916280"/>
            <a:ext cx="2486160" cy="780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41120" y="3479760"/>
            <a:ext cx="89679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47680" y="162000"/>
            <a:ext cx="8648640" cy="653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8345520" y="37893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8345520" y="530064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754760" y="378936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754760" y="530064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221600" y="37893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221600" y="530064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659640" y="384660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659640" y="535788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219640" y="242100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6084720" y="358776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6084720" y="509904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5522760" y="358776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5494320" y="509904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4975200" y="361620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4960800" y="509904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4398840" y="364500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4398840" y="515628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9"/>
          <a:stretch/>
        </p:blipFill>
        <p:spPr>
          <a:xfrm>
            <a:off x="385128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0"/>
          <a:stretch/>
        </p:blipFill>
        <p:spPr>
          <a:xfrm>
            <a:off x="385128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1"/>
          <a:stretch/>
        </p:blipFill>
        <p:spPr>
          <a:xfrm>
            <a:off x="328932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2"/>
          <a:stretch/>
        </p:blipFill>
        <p:spPr>
          <a:xfrm>
            <a:off x="326088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3"/>
          <a:stretch/>
        </p:blipFill>
        <p:spPr>
          <a:xfrm>
            <a:off x="272736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4"/>
          <a:stretch/>
        </p:blipFill>
        <p:spPr>
          <a:xfrm>
            <a:off x="272736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5"/>
          <a:stretch/>
        </p:blipFill>
        <p:spPr>
          <a:xfrm>
            <a:off x="2165400" y="367344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6"/>
          <a:stretch/>
        </p:blipFill>
        <p:spPr>
          <a:xfrm>
            <a:off x="2165400" y="5184720"/>
            <a:ext cx="43164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9410" descr=""/>
          <p:cNvPicPr/>
          <p:nvPr/>
        </p:nvPicPr>
        <p:blipFill>
          <a:blip r:embed="rId1"/>
          <a:stretch/>
        </p:blipFill>
        <p:spPr>
          <a:xfrm>
            <a:off x="809640" y="2523960"/>
            <a:ext cx="7524720" cy="18100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324000" y="781200"/>
            <a:ext cx="8496000" cy="5295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050920" y="223344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651640" y="4221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588000" y="48830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2050920" y="55897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7352" descr=""/>
          <p:cNvPicPr/>
          <p:nvPr/>
        </p:nvPicPr>
        <p:blipFill>
          <a:blip r:embed="rId1"/>
          <a:stretch/>
        </p:blipFill>
        <p:spPr>
          <a:xfrm>
            <a:off x="595440" y="1162080"/>
            <a:ext cx="7953120" cy="4533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3924360" y="118260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6372360" y="11541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435640" y="1844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284720" y="314172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5219640" y="378936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1692360" y="44658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4514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2124000" y="5099040"/>
            <a:ext cx="208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6324" descr=""/>
          <p:cNvPicPr/>
          <p:nvPr/>
        </p:nvPicPr>
        <p:blipFill>
          <a:blip r:embed="rId1"/>
          <a:stretch/>
        </p:blipFill>
        <p:spPr>
          <a:xfrm>
            <a:off x="295200" y="752400"/>
            <a:ext cx="8553600" cy="53532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766764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66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7610400" y="5530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5301" descr=""/>
          <p:cNvPicPr/>
          <p:nvPr/>
        </p:nvPicPr>
        <p:blipFill>
          <a:blip r:embed="rId1"/>
          <a:stretch/>
        </p:blipFill>
        <p:spPr>
          <a:xfrm>
            <a:off x="88920" y="88920"/>
            <a:ext cx="822960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4" name="组合 55303"/>
          <p:cNvGrpSpPr/>
          <p:nvPr/>
        </p:nvGrpSpPr>
        <p:grpSpPr>
          <a:xfrm>
            <a:off x="752400" y="671400"/>
            <a:ext cx="5114880" cy="6048360"/>
            <a:chOff x="752400" y="671400"/>
            <a:chExt cx="5114880" cy="6048360"/>
          </a:xfrm>
        </p:grpSpPr>
        <p:pic>
          <p:nvPicPr>
            <p:cNvPr id="975" name="图片 55300" descr=""/>
            <p:cNvPicPr/>
            <p:nvPr/>
          </p:nvPicPr>
          <p:blipFill>
            <a:blip r:embed="rId2"/>
            <a:stretch/>
          </p:blipFill>
          <p:spPr>
            <a:xfrm>
              <a:off x="752400" y="671400"/>
              <a:ext cx="5114880" cy="60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图片 55302" descr=""/>
            <p:cNvPicPr/>
            <p:nvPr/>
          </p:nvPicPr>
          <p:blipFill>
            <a:blip r:embed="rId3"/>
            <a:stretch/>
          </p:blipFill>
          <p:spPr>
            <a:xfrm>
              <a:off x="2975040" y="1197000"/>
              <a:ext cx="1152360" cy="525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直接连接符 55304"/>
          <p:cNvSpPr/>
          <p:nvPr/>
        </p:nvSpPr>
        <p:spPr>
          <a:xfrm>
            <a:off x="2987640" y="1484280"/>
            <a:ext cx="1224000" cy="230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55305"/>
          <p:cNvSpPr/>
          <p:nvPr/>
        </p:nvSpPr>
        <p:spPr>
          <a:xfrm flipV="1">
            <a:off x="2987640" y="1341000"/>
            <a:ext cx="1224000" cy="1366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55306"/>
          <p:cNvSpPr/>
          <p:nvPr/>
        </p:nvSpPr>
        <p:spPr>
          <a:xfrm>
            <a:off x="2987640" y="4005360"/>
            <a:ext cx="1224000" cy="230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55307"/>
          <p:cNvSpPr/>
          <p:nvPr/>
        </p:nvSpPr>
        <p:spPr>
          <a:xfrm flipV="1">
            <a:off x="2987640" y="2491920"/>
            <a:ext cx="1224000" cy="2590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55308"/>
          <p:cNvSpPr/>
          <p:nvPr/>
        </p:nvSpPr>
        <p:spPr>
          <a:xfrm flipV="1">
            <a:off x="2959200" y="5013000"/>
            <a:ext cx="1224000" cy="1366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组合 54278"/>
          <p:cNvGrpSpPr/>
          <p:nvPr/>
        </p:nvGrpSpPr>
        <p:grpSpPr>
          <a:xfrm>
            <a:off x="262080" y="828720"/>
            <a:ext cx="8619840" cy="5553000"/>
            <a:chOff x="262080" y="828720"/>
            <a:chExt cx="8619840" cy="5553000"/>
          </a:xfrm>
        </p:grpSpPr>
        <p:pic>
          <p:nvPicPr>
            <p:cNvPr id="983" name="图片 54276" descr=""/>
            <p:cNvPicPr/>
            <p:nvPr/>
          </p:nvPicPr>
          <p:blipFill>
            <a:blip r:embed="rId1"/>
            <a:stretch/>
          </p:blipFill>
          <p:spPr>
            <a:xfrm>
              <a:off x="262080" y="828720"/>
              <a:ext cx="8619840" cy="55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图片 54277" descr=""/>
            <p:cNvPicPr/>
            <p:nvPr/>
          </p:nvPicPr>
          <p:blipFill>
            <a:blip r:embed="rId2"/>
            <a:stretch/>
          </p:blipFill>
          <p:spPr>
            <a:xfrm>
              <a:off x="2050920" y="3716280"/>
              <a:ext cx="633744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直接连接符 54279"/>
          <p:cNvSpPr/>
          <p:nvPr/>
        </p:nvSpPr>
        <p:spPr>
          <a:xfrm>
            <a:off x="2124000" y="3573360"/>
            <a:ext cx="2952720" cy="172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54280"/>
          <p:cNvSpPr/>
          <p:nvPr/>
        </p:nvSpPr>
        <p:spPr>
          <a:xfrm>
            <a:off x="4932360" y="3573360"/>
            <a:ext cx="2952720" cy="172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54281"/>
          <p:cNvSpPr/>
          <p:nvPr/>
        </p:nvSpPr>
        <p:spPr>
          <a:xfrm flipH="1">
            <a:off x="2050920" y="3573360"/>
            <a:ext cx="5400720" cy="1800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52231" descr=""/>
          <p:cNvPicPr/>
          <p:nvPr/>
        </p:nvPicPr>
        <p:blipFill>
          <a:blip r:embed="rId1"/>
          <a:stretch/>
        </p:blipFill>
        <p:spPr>
          <a:xfrm>
            <a:off x="318960" y="200160"/>
            <a:ext cx="8506080" cy="64576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"/>
          <a:stretch/>
        </p:blipFill>
        <p:spPr>
          <a:xfrm>
            <a:off x="2627280" y="54291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554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6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